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DA1D5F-5D74-4F89-A995-CF7BECAC6AF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C000B7-8D09-47A2-AB8D-842274ED870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FC2B47-5E6F-47DA-A752-914C49691EF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Notes Placeholder 3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49840" y="947736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ED88B1-F0AA-452F-9B52-EDC4ADB013D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49840" y="947736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125567-A6A2-44ED-96BD-6B02D35E065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04E-8CA7-45A9-A9BB-5AD2DFB9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190-FFF5-458B-9DDE-B9849FAC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8B6-8D46-4A9B-9FB3-D8015FF3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3BF-DF2F-4BE6-B43A-C7DFFD55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6185-82BA-4730-A91F-E816AD87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5C56-FB65-42D1-A84D-3CA70E92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EDC9-3CD1-4A56-A4EF-B287A9C8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81C8-4D44-42EF-85D9-6DC36DFE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F594-F767-4ABB-B705-E72DAEF8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04C6-4356-4988-9017-36E3A907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4423-B59C-45DF-AB33-EBAE78F6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F90-E3C6-472C-82E4-4B9833E8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63D9-7561-4377-9517-98CE53E9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B0CC-3DAD-4925-A6FC-7FC84EB6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FBD3-A887-494A-B4C5-329DCB54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010A-2EB1-47F4-990C-CCD2DEB0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5AF8-BEFA-4050-B782-4BF59117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7F05B-446D-4370-87AC-2DCB6D7C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68C6C-8ACC-438C-AFDF-9B6B076D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1A6FC-F4A0-4273-823D-C5F72F81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211A1-ED94-40AD-9BFE-8B557B51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B882-1B44-46F4-8181-FD7E6DF0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929-FF38-4D60-BBF7-4499F59B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9D264-17CA-4DFB-811F-C1CDF9AE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85E84-3184-4260-9808-E36A45B8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4B527-8681-41DA-836F-D3BF0D43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B2583-F070-4A48-B629-5102BB17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AF93C-6FC7-4932-8BA1-10242F47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89723-3E79-40FB-B3A0-44741530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FB0D9-32BD-4F13-BE22-9194D4A1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E1BA5-D18A-4AD9-A0E6-DE1C2A07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28A29-8E1D-48F4-83E9-93F77F30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C57A8-DFE9-4D15-81D1-C36A9954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E21-6D3B-40B0-A8B7-533C01FD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FF13B-B357-47CE-8143-A4525702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661C5-8480-4F76-82BA-4FECB102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3D4BF-EDC5-4709-944B-79A96274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C2991-8BCA-4452-BD4E-78391AC6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17E02-460B-4AFD-A9AA-03F72FBC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0F214-622D-4F09-9F7C-CCA4E5CA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BF9A-9F8D-4C71-9CBB-2D754FCD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4BC6E-ED2B-450D-9ABB-21BA046E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D5D33-D49F-4925-950D-41D36CFC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D29-AC39-46D5-86E5-C3D37F22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A37-4EA2-448D-9FFA-37A85DBC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92D-5978-4DA7-A975-BE11E313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344-33B6-4F6C-9694-F81D36FA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987-6DBB-4376-8DB8-F16A9EA3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375E-97D5-4FFA-B3F8-2CAD72596CE7}" type="slidenum">
              <a:rPr b="0" lang="en-A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027C-14B8-4924-B16E-19479BA49E7A}" type="slidenum">
              <a:rPr b="0" lang="en-A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0D1B-C76A-4A91-A4EC-02D7FABB367A}" type="slidenum">
              <a:rPr b="0" lang="en-A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0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1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2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24BA-B848-49BE-B8A8-C96CEB706E44}" type="slidenum">
              <a:rPr b="0" lang="en-A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Dynamic Response of Distributed Generators in a Hybrid Microgrid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0" y="364500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onstantia"/>
              </a:rPr>
              <a:t>Dr. Manjula Dewa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onstantia"/>
              </a:rPr>
              <a:t>Prof.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Arindam Gho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Prof. Gerard Ledw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923A-0194-4AA0-9390-9F8D8409C023}" type="slidenum">
              <a:rPr b="0" lang="en-A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itle 1"/>
          <p:cNvSpPr/>
          <p:nvPr/>
        </p:nvSpPr>
        <p:spPr>
          <a:xfrm>
            <a:off x="468360" y="62064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4617b"/>
                </a:solidFill>
                <a:latin typeface="Calibri"/>
              </a:rPr>
              <a:t>Dynamic Response of DGs in a Microgrid Con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95280" y="1125360"/>
            <a:ext cx="86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b06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06ba"/>
                </a:solidFill>
                <a:latin typeface="Constantia"/>
              </a:rPr>
              <a:t>Droop Control with Non-inertial D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2286000" y="30751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5"/>
          <p:cNvGrpSpPr/>
          <p:nvPr/>
        </p:nvGrpSpPr>
        <p:grpSpPr>
          <a:xfrm>
            <a:off x="108000" y="1628640"/>
            <a:ext cx="4895640" cy="4032000"/>
            <a:chOff x="108000" y="1628640"/>
            <a:chExt cx="4895640" cy="4032000"/>
          </a:xfrm>
        </p:grpSpPr>
        <p:sp>
          <p:nvSpPr>
            <p:cNvPr id="254" name="Rectangle 11"/>
            <p:cNvSpPr/>
            <p:nvPr/>
          </p:nvSpPr>
          <p:spPr>
            <a:xfrm>
              <a:off x="108000" y="5353560"/>
              <a:ext cx="48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62090"/>
                  </a:solidFill>
                  <a:latin typeface="Arial"/>
                </a:rPr>
                <a:t>Power sharing with non-inertial D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Picture 2" descr=""/>
            <p:cNvPicPr/>
            <p:nvPr/>
          </p:nvPicPr>
          <p:blipFill>
            <a:blip r:embed="rId1"/>
            <a:stretch/>
          </p:blipFill>
          <p:spPr>
            <a:xfrm>
              <a:off x="209160" y="1628640"/>
              <a:ext cx="4434480" cy="371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Group 17"/>
          <p:cNvGrpSpPr/>
          <p:nvPr/>
        </p:nvGrpSpPr>
        <p:grpSpPr>
          <a:xfrm>
            <a:off x="4745160" y="1628640"/>
            <a:ext cx="4290840" cy="2663640"/>
            <a:chOff x="4745160" y="1628640"/>
            <a:chExt cx="4290840" cy="2663640"/>
          </a:xfrm>
        </p:grpSpPr>
        <p:sp>
          <p:nvSpPr>
            <p:cNvPr id="257" name="Rectangle 16"/>
            <p:cNvSpPr/>
            <p:nvPr/>
          </p:nvSpPr>
          <p:spPr>
            <a:xfrm>
              <a:off x="4745160" y="3985200"/>
              <a:ext cx="428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62090"/>
                  </a:solidFill>
                  <a:latin typeface="Arial"/>
                </a:rPr>
                <a:t>The variation of DG droop frequenci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Picture 3" descr=""/>
            <p:cNvPicPr/>
            <p:nvPr/>
          </p:nvPicPr>
          <p:blipFill>
            <a:blip r:embed="rId2"/>
            <a:stretch/>
          </p:blipFill>
          <p:spPr>
            <a:xfrm>
              <a:off x="4752000" y="1628640"/>
              <a:ext cx="4284000" cy="234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Text Box 7"/>
          <p:cNvSpPr/>
          <p:nvPr/>
        </p:nvSpPr>
        <p:spPr>
          <a:xfrm>
            <a:off x="179280" y="5602320"/>
            <a:ext cx="820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030a8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a8f"/>
                </a:solidFill>
                <a:latin typeface="Constantia"/>
              </a:rPr>
              <a:t>The interaction during synchronization and load change is smooth since converters can respond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030a8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a8f"/>
                </a:solidFill>
                <a:latin typeface="Constantia"/>
              </a:rPr>
              <a:t>They have the ability to reach the steady state rapid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2057-0C39-481A-B668-71D916F6AE44}" type="slidenum">
              <a:rPr b="0" lang="en-A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itle 1"/>
          <p:cNvSpPr/>
          <p:nvPr/>
        </p:nvSpPr>
        <p:spPr>
          <a:xfrm>
            <a:off x="468360" y="47628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4617b"/>
                </a:solidFill>
                <a:latin typeface="Calibri"/>
              </a:rPr>
              <a:t>Dynamic Response of DGs in a Microgrid Con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95280" y="907920"/>
            <a:ext cx="86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b06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06ba"/>
                </a:solidFill>
                <a:latin typeface="Constantia"/>
              </a:rPr>
              <a:t>Droop Control with Inertial and Non-inertial D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2286000" y="30751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79280" y="5445000"/>
            <a:ext cx="8640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030a8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a8f"/>
                </a:solidFill>
                <a:latin typeface="Constantia"/>
              </a:rPr>
              <a:t>These results show the frequency and real power fluctuations when a DG or a load is conn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030a8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a8f"/>
                </a:solidFill>
                <a:latin typeface="Constantia"/>
              </a:rPr>
              <a:t>To minimize the transient oscillations,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an angle based droop controller</a:t>
            </a:r>
            <a:r>
              <a:rPr b="0" lang="en-US" sz="1800" spc="-1" strike="noStrike">
                <a:solidFill>
                  <a:srgbClr val="030a8f"/>
                </a:solidFill>
                <a:latin typeface="Constantia"/>
              </a:rPr>
              <a:t> is proposed for converter interfaced D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5"/>
          <p:cNvGrpSpPr/>
          <p:nvPr/>
        </p:nvGrpSpPr>
        <p:grpSpPr>
          <a:xfrm>
            <a:off x="108000" y="1413000"/>
            <a:ext cx="4895640" cy="4036680"/>
            <a:chOff x="108000" y="1413000"/>
            <a:chExt cx="4895640" cy="4036680"/>
          </a:xfrm>
        </p:grpSpPr>
        <p:sp>
          <p:nvSpPr>
            <p:cNvPr id="268" name="Rectangle 11"/>
            <p:cNvSpPr/>
            <p:nvPr/>
          </p:nvSpPr>
          <p:spPr>
            <a:xfrm>
              <a:off x="108000" y="5142600"/>
              <a:ext cx="48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62090"/>
                  </a:solidFill>
                  <a:latin typeface="Arial"/>
                </a:rPr>
                <a:t>Power sharing with inertial and non-inertial D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2" descr=""/>
            <p:cNvPicPr/>
            <p:nvPr/>
          </p:nvPicPr>
          <p:blipFill>
            <a:blip r:embed="rId1"/>
            <a:stretch/>
          </p:blipFill>
          <p:spPr>
            <a:xfrm>
              <a:off x="179640" y="1413000"/>
              <a:ext cx="4463640" cy="374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Group 17"/>
          <p:cNvGrpSpPr/>
          <p:nvPr/>
        </p:nvGrpSpPr>
        <p:grpSpPr>
          <a:xfrm>
            <a:off x="4788000" y="1413000"/>
            <a:ext cx="4356000" cy="2395080"/>
            <a:chOff x="4788000" y="1413000"/>
            <a:chExt cx="4356000" cy="2395080"/>
          </a:xfrm>
        </p:grpSpPr>
        <p:sp>
          <p:nvSpPr>
            <p:cNvPr id="271" name="Rectangle 16"/>
            <p:cNvSpPr/>
            <p:nvPr/>
          </p:nvSpPr>
          <p:spPr>
            <a:xfrm>
              <a:off x="4860360" y="3501000"/>
              <a:ext cx="428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62090"/>
                  </a:solidFill>
                  <a:latin typeface="Arial"/>
                </a:rPr>
                <a:t>The variation of DG droop frequenci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Picture 3" descr=""/>
            <p:cNvPicPr/>
            <p:nvPr/>
          </p:nvPicPr>
          <p:blipFill>
            <a:blip r:embed="rId2"/>
            <a:stretch/>
          </p:blipFill>
          <p:spPr>
            <a:xfrm>
              <a:off x="4788000" y="1413000"/>
              <a:ext cx="4320720" cy="208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578F-012C-43D2-96E0-F990D14EC093}" type="slidenum">
              <a:rPr b="0" lang="en-A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95280" y="765000"/>
            <a:ext cx="86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Droop Control with Inertial and Non-inertial DGs Con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0" y="30751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50920" y="1341360"/>
            <a:ext cx="8640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30a8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a8f"/>
                </a:solidFill>
                <a:latin typeface="Constantia"/>
              </a:rPr>
              <a:t>The converters can change its output voltage angle instan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30a8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a8f"/>
                </a:solidFill>
                <a:latin typeface="Constantia"/>
              </a:rPr>
              <a:t>Instead of droop frequency, a corresponding angle is set for the converter output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30a8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a8f"/>
                </a:solidFill>
                <a:latin typeface="Constantia"/>
              </a:rPr>
              <a:t>The proposed droop control is given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1"/>
              <p:cNvSpPr txBox="1"/>
              <p:nvPr/>
            </p:nvSpPr>
            <p:spPr>
              <a:xfrm>
                <a:off x="1619280" y="3357720"/>
                <a:ext cx="28814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1" name="Rectangle 16"/>
          <p:cNvSpPr/>
          <p:nvPr/>
        </p:nvSpPr>
        <p:spPr>
          <a:xfrm>
            <a:off x="179280" y="4221000"/>
            <a:ext cx="88567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modified droop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conventional droop frequen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p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frequency at point of connection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10ed"/>
                </a:solidFill>
                <a:latin typeface="Arial"/>
              </a:rPr>
              <a:t>The time constant of the integrator is selected according to the inertial DG dynamics (i.e., time constant of governor) to ensure a similar response from the non-inertial DG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5796000" y="3201840"/>
                <a:ext cx="18003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/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/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Right Arrow 20"/>
          <p:cNvSpPr/>
          <p:nvPr/>
        </p:nvSpPr>
        <p:spPr>
          <a:xfrm>
            <a:off x="4716360" y="3500280"/>
            <a:ext cx="863640" cy="360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5219640" y="3862080"/>
            <a:ext cx="1440000" cy="939960"/>
            <a:chOff x="5219640" y="3862080"/>
            <a:chExt cx="1440000" cy="939960"/>
          </a:xfrm>
        </p:grpSpPr>
        <p:sp>
          <p:nvSpPr>
            <p:cNvPr id="286" name="Rectangle 21"/>
            <p:cNvSpPr/>
            <p:nvPr/>
          </p:nvSpPr>
          <p:spPr>
            <a:xfrm>
              <a:off x="5219640" y="4221360"/>
              <a:ext cx="14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ang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7" name="Straight Arrow Connector 23"/>
            <p:cNvCxnSpPr/>
            <p:nvPr/>
          </p:nvCxnSpPr>
          <p:spPr>
            <a:xfrm flipV="1">
              <a:off x="5939280" y="3862080"/>
              <a:ext cx="1080" cy="457920"/>
            </a:xfrm>
            <a:prstGeom prst="straightConnector1">
              <a:avLst/>
            </a:prstGeom>
            <a:ln w="38160">
              <a:solidFill>
                <a:srgbClr val="00b05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7398-7513-4BE9-88C1-67FD4210F46F}" type="slidenum">
              <a:rPr b="0" lang="en-A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2286000" y="30751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79280" y="5380200"/>
            <a:ext cx="864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030a8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a8f"/>
                </a:solidFill>
                <a:latin typeface="Constantia"/>
              </a:rPr>
              <a:t>The proposed angle based droop minimize the transient oscil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030a8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a8f"/>
                </a:solidFill>
                <a:latin typeface="Constantia"/>
              </a:rPr>
              <a:t>It also improve the accuracy  of real power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1476360" y="4869000"/>
            <a:ext cx="48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2090"/>
                </a:solidFill>
                <a:latin typeface="Arial"/>
              </a:rPr>
              <a:t>Power sharing with inertial and non-inertial D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324000" y="765000"/>
            <a:ext cx="86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Droop Control with Inertial and Non-inertial DGs Con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41050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8"/>
          <p:cNvSpPr txBox="1"/>
          <p:nvPr/>
        </p:nvSpPr>
        <p:spPr>
          <a:xfrm>
            <a:off x="2484360" y="2637000"/>
            <a:ext cx="36543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1912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4617b"/>
                </a:solidFill>
                <a:latin typeface="Calibri"/>
              </a:rPr>
              <a:t>What is a microgrid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87400"/>
            <a:ext cx="8291520" cy="38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3047e"/>
                </a:solidFill>
                <a:latin typeface="Constantia"/>
              </a:rPr>
              <a:t>Small scale generation units connected to a grid is called </a:t>
            </a:r>
            <a:r>
              <a:rPr b="0" lang="en-AU" sz="2400" spc="-1" strike="noStrike">
                <a:solidFill>
                  <a:srgbClr val="ac1857"/>
                </a:solidFill>
                <a:latin typeface="Constantia"/>
              </a:rPr>
              <a:t>distributed generators (DG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7e"/>
                </a:solidFill>
                <a:latin typeface="Constantia"/>
              </a:rPr>
              <a:t>A microgrid can be considered as an entirely DG based grid that contains both generators and loa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7e"/>
                </a:solidFill>
                <a:latin typeface="Constantia"/>
              </a:rPr>
              <a:t>A microgrid can operate in either grid connected mode or islanded m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7e"/>
                </a:solidFill>
                <a:latin typeface="Constantia"/>
              </a:rPr>
              <a:t>In an islanded mode, the DGs connected to the microgrid supply its loa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BC5D-9C32-46CD-9223-CD073D11287F}" type="slidenum">
              <a:rPr b="0" lang="en-A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0720" y="558720"/>
            <a:ext cx="880128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4617b"/>
                </a:solidFill>
                <a:latin typeface="Calibri"/>
              </a:rPr>
              <a:t>What are the Operational Challenges in a Microgrid</a:t>
            </a:r>
            <a:r>
              <a:rPr b="1" lang="en-AU" sz="2800" spc="-1" strike="noStrike">
                <a:solidFill>
                  <a:srgbClr val="04617b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03DE-9A9E-4131-A228-44CE8935EB96}" type="slidenum">
              <a:rPr b="0" lang="en-A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42600" y="1339560"/>
            <a:ext cx="8435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1b06ba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b06ba"/>
                </a:solidFill>
                <a:latin typeface="Constantia"/>
              </a:rPr>
              <a:t>Different types of sources: dispatchable or non-dispatchable, inertial or non-inert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1b06ba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1b06ba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1b06ba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1b06ba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1b06ba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Content Placeholder 2"/>
          <p:cNvSpPr/>
          <p:nvPr/>
        </p:nvSpPr>
        <p:spPr>
          <a:xfrm>
            <a:off x="663480" y="2637000"/>
            <a:ext cx="8229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1b06ba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b06ba"/>
                </a:solidFill>
                <a:latin typeface="Constantia"/>
              </a:rPr>
              <a:t>Different dynamic response of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20000"/>
              </a:lnSpc>
              <a:spcBef>
                <a:spcPts val="499"/>
              </a:spcBef>
              <a:buClr>
                <a:srgbClr val="1b06ba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9025"/>
                </a:solidFill>
                <a:latin typeface="Constantia"/>
              </a:rPr>
              <a:t>Inertial sources – slower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20000"/>
              </a:lnSpc>
              <a:spcBef>
                <a:spcPts val="499"/>
              </a:spcBef>
              <a:buClr>
                <a:srgbClr val="1b06ba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9025"/>
                </a:solidFill>
                <a:latin typeface="Constantia"/>
              </a:rPr>
              <a:t>Non-inertial sources – fast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4360" y="3645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1b06ba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06ba"/>
                </a:solidFill>
                <a:latin typeface="Arial"/>
              </a:rPr>
              <a:t>Grid-connected and islande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20000"/>
              </a:lnSpc>
              <a:spcBef>
                <a:spcPts val="499"/>
              </a:spcBef>
              <a:buClr>
                <a:srgbClr val="1b06ba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9025"/>
                </a:solidFill>
                <a:latin typeface="Arial"/>
              </a:rPr>
              <a:t>Frequency and voltage control, power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764640"/>
            <a:ext cx="87138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4617b"/>
                </a:solidFill>
                <a:latin typeface="Calibri"/>
              </a:rPr>
              <a:t>Desired Control Strategies for a Microgrid 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E4DD-B21B-40A4-A694-E7AE6421DDCE}" type="slidenum">
              <a:rPr b="0" lang="en-A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81160" y="1557000"/>
            <a:ext cx="88992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50000"/>
              </a:lnSpc>
              <a:spcBef>
                <a:spcPts val="649"/>
              </a:spcBef>
              <a:buClr>
                <a:srgbClr val="1b06ba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b06ba"/>
                </a:solidFill>
                <a:latin typeface="Constantia"/>
              </a:rPr>
              <a:t>Incorporate both inertial and non-inertial 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649"/>
              </a:spcBef>
              <a:buClr>
                <a:srgbClr val="1b06ba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b06ba"/>
                </a:solidFill>
                <a:latin typeface="Constantia"/>
              </a:rPr>
              <a:t>allow grid-connected and islanded ope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649"/>
              </a:spcBef>
              <a:buClr>
                <a:srgbClr val="1b06ba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1b06ba"/>
                </a:solidFill>
                <a:latin typeface="Constantia"/>
              </a:rPr>
              <a:t>enable load power sharing amongst different 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649"/>
              </a:spcBef>
              <a:buClr>
                <a:srgbClr val="1b06ba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b06ba"/>
                </a:solidFill>
                <a:latin typeface="Constantia"/>
              </a:rPr>
              <a:t>damp out transient power oscill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52B0-2755-4DBB-8C7E-32B5197207C6}" type="slidenum">
              <a:rPr b="0" lang="en-A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468360" y="47628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Dynamic Response of DGs in a Micro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95280" y="112536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b06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06ba"/>
                </a:solidFill>
                <a:latin typeface="Constantia"/>
              </a:rPr>
              <a:t>Real and Reactive Power Sharing in a Microgr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" descr="freq_droop2"/>
          <p:cNvPicPr/>
          <p:nvPr/>
        </p:nvPicPr>
        <p:blipFill>
          <a:blip r:embed="rId1"/>
          <a:stretch/>
        </p:blipFill>
        <p:spPr>
          <a:xfrm>
            <a:off x="533520" y="1628640"/>
            <a:ext cx="3462120" cy="2737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vol_droop1"/>
          <p:cNvPicPr/>
          <p:nvPr/>
        </p:nvPicPr>
        <p:blipFill>
          <a:blip r:embed="rId2"/>
          <a:stretch/>
        </p:blipFill>
        <p:spPr>
          <a:xfrm>
            <a:off x="4500720" y="1557360"/>
            <a:ext cx="3479760" cy="2879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1169640" y="436572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2090"/>
                </a:solidFill>
                <a:latin typeface="Arial"/>
              </a:rPr>
              <a:t>Frequency droop characteris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5012640" y="4437000"/>
            <a:ext cx="269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2090"/>
                </a:solidFill>
                <a:latin typeface="Arial"/>
              </a:rPr>
              <a:t>Voltage droop character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900000" y="4797360"/>
                <a:ext cx="2940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5148360" y="4724280"/>
                <a:ext cx="30970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Rectangle 3"/>
          <p:cNvSpPr/>
          <p:nvPr/>
        </p:nvSpPr>
        <p:spPr>
          <a:xfrm>
            <a:off x="468360" y="5300640"/>
            <a:ext cx="84358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Bef>
                <a:spcPts val="550"/>
              </a:spcBef>
              <a:buClr>
                <a:srgbClr val="1b06ba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b06ba"/>
                </a:solidFill>
                <a:latin typeface="Constantia"/>
              </a:rPr>
              <a:t>Dispatchable sources are operated in frequency and voltage droop while n</a:t>
            </a:r>
            <a:r>
              <a:rPr b="0" lang="en-US" sz="2200" spc="-1" strike="noStrike">
                <a:solidFill>
                  <a:srgbClr val="1b06ba"/>
                </a:solidFill>
                <a:latin typeface="Constantia"/>
              </a:rPr>
              <a:t>on-dispatchable sources are operated in maximum power point tracking (MPP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553D-C155-4692-91FC-5FE76FBA7760}" type="slidenum">
              <a:rPr b="0" lang="en-A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468360" y="62064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4617b"/>
                </a:solidFill>
                <a:latin typeface="Calibri"/>
              </a:rPr>
              <a:t>Dynamic Response of DGs in a Microgrid Con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95280" y="1268280"/>
            <a:ext cx="86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b06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06ba"/>
                </a:solidFill>
                <a:latin typeface="Constantia"/>
              </a:rPr>
              <a:t>Microgrid Simulation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724360" y="2060640"/>
          <a:ext cx="3311640" cy="3959280"/>
        </p:xfrm>
        <a:graphic>
          <a:graphicData uri="http://schemas.openxmlformats.org/drawingml/2006/table">
            <a:tbl>
              <a:tblPr/>
              <a:tblGrid>
                <a:gridCol w="1584360"/>
                <a:gridCol w="1727280"/>
              </a:tblGrid>
              <a:tr h="23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volt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15 kV rms (L-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G1 power ra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 +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8) k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G2 power ra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 +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) k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er impedance (Z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Z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25+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2566) 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ad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mped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+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1.781) 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ad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mped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+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.708) Ω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 droop coefficient (Hz/k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=33.33, m2= 41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tage droop coefficient (V/kV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1=1.2, n2=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2" name="Group 16"/>
          <p:cNvGrpSpPr/>
          <p:nvPr/>
        </p:nvGrpSpPr>
        <p:grpSpPr>
          <a:xfrm>
            <a:off x="141120" y="2205000"/>
            <a:ext cx="5078520" cy="2784960"/>
            <a:chOff x="141120" y="2205000"/>
            <a:chExt cx="5078520" cy="2784960"/>
          </a:xfrm>
        </p:grpSpPr>
        <p:pic>
          <p:nvPicPr>
            <p:cNvPr id="213" name="Picture 4" descr="2DGs"/>
            <p:cNvPicPr/>
            <p:nvPr/>
          </p:nvPicPr>
          <p:blipFill>
            <a:blip r:embed="rId1"/>
            <a:stretch/>
          </p:blipFill>
          <p:spPr>
            <a:xfrm>
              <a:off x="141120" y="2205000"/>
              <a:ext cx="5078520" cy="23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15"/>
            <p:cNvSpPr/>
            <p:nvPr/>
          </p:nvSpPr>
          <p:spPr>
            <a:xfrm>
              <a:off x="706320" y="4652640"/>
              <a:ext cx="424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62090"/>
                  </a:solidFill>
                  <a:latin typeface="Arial"/>
                </a:rPr>
                <a:t>Schematic diagram of two DGs sharing loa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C406-7EAB-40CD-81A6-6959390B7533}" type="slidenum">
              <a:rPr b="0" lang="en-A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468360" y="76212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4617b"/>
                </a:solidFill>
                <a:latin typeface="Calibri"/>
              </a:rPr>
              <a:t>Dynamic Response of DGs in a Microgrid Con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95280" y="1486080"/>
            <a:ext cx="86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b06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06ba"/>
                </a:solidFill>
                <a:latin typeface="Constantia"/>
              </a:rPr>
              <a:t>Droop Control with Inertial D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108000" y="2060640"/>
            <a:ext cx="4895640" cy="3836160"/>
            <a:chOff x="108000" y="2060640"/>
            <a:chExt cx="4895640" cy="3836160"/>
          </a:xfrm>
        </p:grpSpPr>
        <p:pic>
          <p:nvPicPr>
            <p:cNvPr id="221" name="Picture 2" descr=""/>
            <p:cNvPicPr/>
            <p:nvPr/>
          </p:nvPicPr>
          <p:blipFill>
            <a:blip r:embed="rId1"/>
            <a:stretch/>
          </p:blipFill>
          <p:spPr>
            <a:xfrm>
              <a:off x="395640" y="2060640"/>
              <a:ext cx="4114440" cy="34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11"/>
            <p:cNvSpPr/>
            <p:nvPr/>
          </p:nvSpPr>
          <p:spPr>
            <a:xfrm>
              <a:off x="108000" y="5589720"/>
              <a:ext cx="48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62090"/>
                  </a:solidFill>
                  <a:latin typeface="Arial"/>
                </a:rPr>
                <a:t>Power sharing before and after the DG2 conn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14"/>
          <p:cNvSpPr/>
          <p:nvPr/>
        </p:nvSpPr>
        <p:spPr>
          <a:xfrm>
            <a:off x="2286000" y="30751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7"/>
          <p:cNvGrpSpPr/>
          <p:nvPr/>
        </p:nvGrpSpPr>
        <p:grpSpPr>
          <a:xfrm>
            <a:off x="4643280" y="2063880"/>
            <a:ext cx="4429440" cy="2464560"/>
            <a:chOff x="4643280" y="2063880"/>
            <a:chExt cx="4429440" cy="2464560"/>
          </a:xfrm>
        </p:grpSpPr>
        <p:pic>
          <p:nvPicPr>
            <p:cNvPr id="225" name="Picture 3" descr=""/>
            <p:cNvPicPr/>
            <p:nvPr/>
          </p:nvPicPr>
          <p:blipFill>
            <a:blip r:embed="rId2"/>
            <a:stretch/>
          </p:blipFill>
          <p:spPr>
            <a:xfrm>
              <a:off x="4715280" y="2063880"/>
              <a:ext cx="417816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Rectangle 16"/>
            <p:cNvSpPr/>
            <p:nvPr/>
          </p:nvSpPr>
          <p:spPr>
            <a:xfrm>
              <a:off x="4643280" y="4221360"/>
              <a:ext cx="442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62090"/>
                  </a:solidFill>
                  <a:latin typeface="Arial"/>
                </a:rPr>
                <a:t>The variation of DG droop frequencies of inertial D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DA19-B076-42C3-9E63-1A0DA890C19A}" type="slidenum">
              <a:rPr b="0" lang="en-A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84360" y="54936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reasons for these oscil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684360" y="98100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375"/>
              </a:spcBef>
              <a:buClr>
                <a:srgbClr val="030a8f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0a8f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30a8f"/>
                </a:solidFill>
                <a:latin typeface="Constantia"/>
              </a:rPr>
              <a:t>Slower governor response -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utput speed/frequency cannot be changed instan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75"/>
              </a:spcBef>
              <a:buClr>
                <a:srgbClr val="030a8f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0a8f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30a8f"/>
                </a:solidFill>
                <a:latin typeface="Constantia"/>
              </a:rPr>
              <a:t>The absence of a single strong source (i.e., util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75"/>
              </a:spcBef>
              <a:buClr>
                <a:srgbClr val="030a8f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30a8f"/>
                </a:solidFill>
                <a:latin typeface="Constantia"/>
              </a:rPr>
              <a:t> </a:t>
            </a:r>
            <a:r>
              <a:rPr b="0" lang="en-AU" sz="2200" spc="-1" strike="noStrike">
                <a:solidFill>
                  <a:srgbClr val="030a8f"/>
                </a:solidFill>
                <a:latin typeface="Constantia"/>
              </a:rPr>
              <a:t>DGs </a:t>
            </a:r>
            <a:r>
              <a:rPr b="0" lang="en-US" sz="2200" spc="-1" strike="noStrike">
                <a:solidFill>
                  <a:srgbClr val="030a8f"/>
                </a:solidFill>
                <a:latin typeface="Constantia"/>
              </a:rPr>
              <a:t>are separated by a small line segment -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urther limits the damping oscil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84360" y="31114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Proposal to minimize transient oscil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611280" y="357336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375"/>
              </a:spcBef>
              <a:buClr>
                <a:srgbClr val="030a8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0a8f"/>
                </a:solidFill>
                <a:latin typeface="Constantia"/>
              </a:rPr>
              <a:t>proposed droop control is obtained by changing the frequency setting of incoming generator from the PC frequency to the droop frequency with a time constant of governor characteris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"/>
              <p:cNvSpPr txBox="1"/>
              <p:nvPr/>
            </p:nvSpPr>
            <p:spPr>
              <a:xfrm>
                <a:off x="1332000" y="4753080"/>
                <a:ext cx="57610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rad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Rectangle 10"/>
          <p:cNvSpPr/>
          <p:nvPr/>
        </p:nvSpPr>
        <p:spPr>
          <a:xfrm>
            <a:off x="504720" y="5869080"/>
            <a:ext cx="863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6115"/>
                </a:solidFill>
                <a:latin typeface="Arial"/>
              </a:rPr>
              <a:t>where </a:t>
            </a:r>
            <a:r>
              <a:rPr b="0" i="1" lang="en-US" sz="1600" spc="-1" strike="noStrike">
                <a:solidFill>
                  <a:srgbClr val="e96115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e96115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e96115"/>
                </a:solidFill>
                <a:latin typeface="Arial"/>
              </a:rPr>
              <a:t> is the droop frequency of the incoming DG, </a:t>
            </a:r>
            <a:r>
              <a:rPr b="0" i="1" lang="en-US" sz="1600" spc="-1" strike="noStrike">
                <a:solidFill>
                  <a:srgbClr val="e96115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e96115"/>
                </a:solidFill>
                <a:latin typeface="Arial"/>
              </a:rPr>
              <a:t>pc</a:t>
            </a:r>
            <a:r>
              <a:rPr b="0" lang="en-US" sz="1600" spc="-1" strike="noStrike">
                <a:solidFill>
                  <a:srgbClr val="e96115"/>
                </a:solidFill>
                <a:latin typeface="Arial"/>
              </a:rPr>
              <a:t> is the measured frequency at PC and </a:t>
            </a:r>
            <a:r>
              <a:rPr b="0" i="1" lang="en-US" sz="1600" spc="-1" strike="noStrike">
                <a:solidFill>
                  <a:srgbClr val="e96115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e96115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e96115"/>
                </a:solidFill>
                <a:latin typeface="Arial"/>
              </a:rPr>
              <a:t> is the time constant chosen to reach the droop frequency from the PC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D08C-C289-4938-AE9D-9EEE2FBA8088}" type="slidenum">
              <a:rPr b="0" lang="en-A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395280" y="692280"/>
            <a:ext cx="86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b06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06ba"/>
                </a:solidFill>
                <a:latin typeface="Constantia"/>
              </a:rPr>
              <a:t>Proposed Droop Control with Inertial D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2286000" y="30751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-181080" y="1268280"/>
            <a:ext cx="4897440" cy="3808080"/>
            <a:chOff x="-181080" y="1268280"/>
            <a:chExt cx="4897440" cy="3808080"/>
          </a:xfrm>
        </p:grpSpPr>
        <p:sp>
          <p:nvSpPr>
            <p:cNvPr id="241" name="Rectangle 11"/>
            <p:cNvSpPr/>
            <p:nvPr/>
          </p:nvSpPr>
          <p:spPr>
            <a:xfrm>
              <a:off x="-181080" y="4769280"/>
              <a:ext cx="489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62090"/>
                  </a:solidFill>
                  <a:latin typeface="Arial"/>
                </a:rPr>
                <a:t>Power sharing before and after the DG2 conn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Picture 2" descr=""/>
            <p:cNvPicPr/>
            <p:nvPr/>
          </p:nvPicPr>
          <p:blipFill>
            <a:blip r:embed="rId1"/>
            <a:stretch/>
          </p:blipFill>
          <p:spPr>
            <a:xfrm>
              <a:off x="186840" y="1268280"/>
              <a:ext cx="4169160" cy="350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17"/>
          <p:cNvGrpSpPr/>
          <p:nvPr/>
        </p:nvGrpSpPr>
        <p:grpSpPr>
          <a:xfrm>
            <a:off x="4506840" y="1268280"/>
            <a:ext cx="4602240" cy="2683800"/>
            <a:chOff x="4506840" y="1268280"/>
            <a:chExt cx="4602240" cy="2683800"/>
          </a:xfrm>
        </p:grpSpPr>
        <p:sp>
          <p:nvSpPr>
            <p:cNvPr id="244" name="Rectangle 16"/>
            <p:cNvSpPr/>
            <p:nvPr/>
          </p:nvSpPr>
          <p:spPr>
            <a:xfrm>
              <a:off x="4643640" y="3645000"/>
              <a:ext cx="44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62090"/>
                  </a:solidFill>
                  <a:latin typeface="Arial"/>
                </a:rPr>
                <a:t>The variation of DG droop frequencies of inertial D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3" descr=""/>
            <p:cNvPicPr/>
            <p:nvPr/>
          </p:nvPicPr>
          <p:blipFill>
            <a:blip r:embed="rId2"/>
            <a:stretch/>
          </p:blipFill>
          <p:spPr>
            <a:xfrm>
              <a:off x="4506840" y="1268280"/>
              <a:ext cx="4602240" cy="23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Text Box 7"/>
          <p:cNvSpPr/>
          <p:nvPr/>
        </p:nvSpPr>
        <p:spPr>
          <a:xfrm>
            <a:off x="250920" y="5200560"/>
            <a:ext cx="82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375"/>
              </a:spcBef>
              <a:buClr>
                <a:srgbClr val="030a8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0a8f"/>
                </a:solidFill>
                <a:latin typeface="Constantia"/>
              </a:rPr>
              <a:t>The proposed droop helps incoming diesel generator to connect smoothly, thus minimizing frequency and power fluctuations in an autonomous microgr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01:05:20Z</dcterms:created>
  <dc:creator>Publications Unit</dc:creator>
  <dc:description/>
  <dc:language>en-US</dc:language>
  <cp:lastModifiedBy>Queensland University of Technology</cp:lastModifiedBy>
  <dcterms:modified xsi:type="dcterms:W3CDTF">2011-04-11T02:54:15Z</dcterms:modified>
  <cp:revision>366</cp:revision>
  <dc:subject/>
  <dc:title>PowerPoint Presentation</dc:title>
</cp:coreProperties>
</file>