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35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4DE3-4D4A-4140-8803-18EC8112C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0481-4222-449D-B85B-BCF3AF825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D82E-DF8D-4D68-9AFF-6D2668791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3CD1-7A0E-422C-92AC-215795FFA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7D2B-C5E1-470E-98B5-5B61F4220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3EB7-51D6-45E7-B9AC-60028930E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85FD-F878-4171-B777-516860CD3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E10D-DB34-4A98-A0EA-578D18082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B591-4221-4D06-985A-D45765FB0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81B2-F86F-4C5D-B713-97FA12537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1268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1268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1268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1268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1268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1268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1268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1268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1268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1268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1268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35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1b1b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022800"/>
            <a:ext cx="9144000" cy="835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QUTlogo2955"/>
          <p:cNvPicPr/>
          <p:nvPr/>
        </p:nvPicPr>
        <p:blipFill>
          <a:blip r:embed="rId2"/>
          <a:srcRect l="0" t="0" r="77761" b="27822"/>
          <a:stretch/>
        </p:blipFill>
        <p:spPr>
          <a:xfrm>
            <a:off x="820800" y="6221520"/>
            <a:ext cx="430200" cy="425520"/>
          </a:xfrm>
          <a:prstGeom prst="rect">
            <a:avLst/>
          </a:prstGeom>
          <a:ln w="0">
            <a:noFill/>
          </a:ln>
        </p:spPr>
      </p:pic>
      <p:sp>
        <p:nvSpPr>
          <p:cNvPr id="4" name="Text Box 6"/>
          <p:cNvSpPr/>
          <p:nvPr/>
        </p:nvSpPr>
        <p:spPr>
          <a:xfrm>
            <a:off x="7169040" y="6351480"/>
            <a:ext cx="130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03566"/>
                </a:solidFill>
                <a:latin typeface="Arial"/>
              </a:rPr>
              <a:t>CRICOS No. 000213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374120" y="6303960"/>
            <a:ext cx="14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 university for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184560" y="6362640"/>
            <a:ext cx="55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worl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2675520" y="6254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3699000" y="6276960"/>
            <a:ext cx="1918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3765600" y="6313320"/>
            <a:ext cx="93600" cy="93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5946840"/>
            <a:ext cx="9144000" cy="91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10720" y="6564240"/>
            <a:ext cx="201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03566"/>
                </a:solidFill>
                <a:latin typeface="Arial"/>
              </a:rPr>
              <a:t>Queensland University of Techn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QUTlogo2955"/>
          <p:cNvPicPr/>
          <p:nvPr/>
        </p:nvPicPr>
        <p:blipFill>
          <a:blip r:embed="rId2"/>
          <a:srcRect l="0" t="0" r="77758" b="27817"/>
          <a:stretch/>
        </p:blipFill>
        <p:spPr>
          <a:xfrm>
            <a:off x="770040" y="6143760"/>
            <a:ext cx="442800" cy="438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7143480" y="6351480"/>
            <a:ext cx="130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03566"/>
                </a:solidFill>
                <a:latin typeface="Arial"/>
              </a:rPr>
              <a:t>CRICOS No. 000213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35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1b1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1b1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1b1b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35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0678"/>
                </a:solidFill>
                <a:latin typeface="Arial"/>
              </a:rPr>
              <a:t>Islanded Operation and System Restoration with Converter Interfaced Distributed Generation</a:t>
            </a:r>
            <a:endParaRPr b="1" lang="en-US" sz="36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548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70c0"/>
                </a:solidFill>
                <a:latin typeface="Arial"/>
              </a:rPr>
              <a:t>Manjula Dewadasa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70c0"/>
                </a:solidFill>
                <a:latin typeface="Arial"/>
              </a:rPr>
              <a:t>Arindam Ghosh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Gerard Ledwich</a:t>
            </a:r>
            <a:endParaRPr b="0" lang="en-US" sz="2800" spc="-1" strike="noStrike">
              <a:solidFill>
                <a:srgbClr val="1035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4400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b0678"/>
                </a:solidFill>
                <a:latin typeface="Arial"/>
              </a:rPr>
              <a:t>Introduction – DG Issues</a:t>
            </a:r>
            <a:endParaRPr b="1" lang="en-US" sz="36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0" y="333360"/>
            <a:ext cx="914400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enetration level of distributed generators (DGs)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o      distribution networks is increasing rap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connection of DGs for every fault drastically reduces the reliability when the penetration level of DG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Fault isolation, islanded operation, arc extinctio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system restor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fter a fault are the major protection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DG benefits can be maximized if as many DGs as possible are allowed to maintain the connection for temporary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f protection scheme can isolate faults and allow intentional power islands to operate with adequate protection, the reliability of the system can be in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b0678"/>
                </a:solidFill>
                <a:latin typeface="Arial"/>
              </a:rPr>
              <a:t>Proposed Control and Protection Schemes</a:t>
            </a:r>
            <a:endParaRPr b="1" lang="en-US" sz="34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00" name="Content Placeholder 2"/>
          <p:cNvSpPr/>
          <p:nvPr/>
        </p:nvSpPr>
        <p:spPr>
          <a:xfrm>
            <a:off x="0" y="189000"/>
            <a:ext cx="914400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 this paper, a protection scheme and an intelligent control strategy for converter interfaced DGs are proposed for a network containing higher DG penetratio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he proposed solution incl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solating the faulted segment from both upstream and downstream side using overcurrent (OC) r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 control strategy for a converter DG to achieve fault isolation, self extinction of arc, islanded and grid-connected operation without disconnecting DGs from unfaulted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 method to perform system restoration in the presence of DGs using auto reclosers in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b0678"/>
                </a:solidFill>
                <a:latin typeface="Arial"/>
              </a:rPr>
              <a:t>Proposed Protection Scheme for Fault Isolation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02" name="Content Placeholder 2"/>
          <p:cNvSpPr/>
          <p:nvPr/>
        </p:nvSpPr>
        <p:spPr>
          <a:xfrm>
            <a:off x="0" y="260280"/>
            <a:ext cx="9144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fault current level in the network cannot be predicted in advance since DGs are intermit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 this circumstance, the existing settings of OC relays will not work to isolate the faulted seg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refore, it is proposed to change the relay settings according to the present system configur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digital type OC relays, which have the communication capability, ar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lays acquire the each DG circuit breaker states to work out the present system configuration and they select the most appropriate setting for fault de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b0678"/>
                </a:solidFill>
                <a:latin typeface="Arial"/>
              </a:rPr>
              <a:t>Proposed Converter Control Strategy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04" name="Content Placeholder 2"/>
          <p:cNvSpPr/>
          <p:nvPr/>
        </p:nvSpPr>
        <p:spPr>
          <a:xfrm>
            <a:off x="0" y="189000"/>
            <a:ext cx="914400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control strategy for a voltage source converter (VSC) is proposed based on the fold back current control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proposal helps in successful fault isolation and fast system restoration with converter interfaced 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uring a fault in the network, the VSC control maintains a sufficient fault current level for a defined time period enabling effective fault detection by OC r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so, the VSC control helps to self extinction of an arc fault without disconnecting the DG from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reover, the system restoration and coordination between network reclosers and DGs are achieved with the aid of proposed VSC control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b0678"/>
                </a:solidFill>
                <a:latin typeface="Arial"/>
              </a:rPr>
              <a:t>DG Control Strategy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pic>
        <p:nvPicPr>
          <p:cNvPr id="106" name="Picture 2" descr="foldback"/>
          <p:cNvPicPr/>
          <p:nvPr/>
        </p:nvPicPr>
        <p:blipFill>
          <a:blip r:embed="rId1"/>
          <a:stretch/>
        </p:blipFill>
        <p:spPr>
          <a:xfrm>
            <a:off x="0" y="836640"/>
            <a:ext cx="4859280" cy="2548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foldback_res"/>
          <p:cNvPicPr/>
          <p:nvPr/>
        </p:nvPicPr>
        <p:blipFill>
          <a:blip r:embed="rId2"/>
          <a:stretch/>
        </p:blipFill>
        <p:spPr>
          <a:xfrm>
            <a:off x="5256360" y="620640"/>
            <a:ext cx="3852720" cy="2838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772920" y="33577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G behavior during a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596560" y="350028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ation characte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0" y="3868560"/>
            <a:ext cx="914400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The VSC maintains the current limiting for the time period of </a:t>
            </a:r>
            <a:r>
              <a:rPr b="0" i="1" lang="en-US" sz="23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i="1" lang="en-US" sz="2300" spc="-1" strike="noStrike" baseline="-25000">
                <a:solidFill>
                  <a:srgbClr val="0000ff"/>
                </a:solidFill>
                <a:latin typeface="Arial"/>
              </a:rPr>
              <a:t>cc</a:t>
            </a: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The VSC folds back the output current to a very small value for another defined time period </a:t>
            </a:r>
            <a:r>
              <a:rPr b="0" i="1" lang="en-US" sz="23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i="1" lang="en-US" sz="2300" spc="-1" strike="noStrike" baseline="-25000">
                <a:solidFill>
                  <a:srgbClr val="0000ff"/>
                </a:solidFill>
                <a:latin typeface="Arial"/>
              </a:rPr>
              <a:t>sm</a:t>
            </a: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 (called sleep mode), if the DG is still connected to the faulted seg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The sleep mode operation enables the arc extinction without DG disconne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flowchart1"/>
          <p:cNvPicPr/>
          <p:nvPr/>
        </p:nvPicPr>
        <p:blipFill>
          <a:blip r:embed="rId1"/>
          <a:stretch/>
        </p:blipFill>
        <p:spPr>
          <a:xfrm>
            <a:off x="3276720" y="189000"/>
            <a:ext cx="5335560" cy="57610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>
            <a:off x="324000" y="2276640"/>
            <a:ext cx="25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he proposed VSC control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67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b0678"/>
                </a:solidFill>
                <a:latin typeface="Arial"/>
              </a:rPr>
              <a:t>Simulation Studies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pic>
        <p:nvPicPr>
          <p:cNvPr id="114" name="Picture 2" descr="radil_with_DG_comms"/>
          <p:cNvPicPr/>
          <p:nvPr/>
        </p:nvPicPr>
        <p:blipFill>
          <a:blip r:embed="rId1"/>
          <a:stretch/>
        </p:blipFill>
        <p:spPr>
          <a:xfrm>
            <a:off x="250920" y="333360"/>
            <a:ext cx="2989080" cy="563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DG1_vol_cur"/>
          <p:cNvPicPr/>
          <p:nvPr/>
        </p:nvPicPr>
        <p:blipFill>
          <a:blip r:embed="rId2"/>
          <a:stretch/>
        </p:blipFill>
        <p:spPr>
          <a:xfrm>
            <a:off x="3995640" y="647640"/>
            <a:ext cx="4240440" cy="3502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2987640" y="4724280"/>
            <a:ext cx="61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relays R1 and R2 respond to isolate the 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fter successful faulted segment isolation, the DGs restore the system beyond BUS-2 supplying the load power requirement in the islanded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4140360" y="40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G1 response before, during and after a fault between BUS-1 and BUS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b0678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103566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0" y="160200"/>
            <a:ext cx="914400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current practice of immediate DG disconnection for every fault drastically reduces the benefits of 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 this paper, the identified protection and control issues which lead to immediate DG disconnections are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protection scheme has been proposed to isolate the faulted segment allowing DGs to operate either in grid connected or islanded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proposed control strategy for a converter interfaced DG helps in fault detection, arc extinction and system restoration in a DG connected distributio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 is shown that DG benefits can be maximized maintaining as many DG connections as possible using proposed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23:34:27Z</dcterms:created>
  <dc:creator>ghosh</dc:creator>
  <dc:description/>
  <dc:language>en-US</dc:language>
  <cp:lastModifiedBy>Nadee</cp:lastModifiedBy>
  <dcterms:modified xsi:type="dcterms:W3CDTF">2011-11-11T12:09:31Z</dcterms:modified>
  <cp:revision>240</cp:revision>
  <dc:subject/>
  <dc:title>What’s in it for me?</dc:title>
</cp:coreProperties>
</file>