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76E1-2568-484A-82C2-C4280A9C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211D-5CE7-4E65-B49E-FC7F8345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022800"/>
            <a:ext cx="9144000" cy="835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QUTlogo2955"/>
          <p:cNvPicPr/>
          <p:nvPr/>
        </p:nvPicPr>
        <p:blipFill>
          <a:blip r:embed="rId2"/>
          <a:srcRect l="0" t="0" r="77761" b="27822"/>
          <a:stretch/>
        </p:blipFill>
        <p:spPr>
          <a:xfrm>
            <a:off x="820800" y="6221520"/>
            <a:ext cx="430200" cy="425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716904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374120" y="6303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184560" y="6362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2675520" y="6254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3699000" y="6276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3765600" y="6313320"/>
            <a:ext cx="93600" cy="93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5946840"/>
            <a:ext cx="9144000" cy="9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10720" y="6564240"/>
            <a:ext cx="201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03566"/>
                </a:solidFill>
                <a:latin typeface="Arial"/>
              </a:rPr>
              <a:t>Queensland University of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QUTlogo2955"/>
          <p:cNvPicPr/>
          <p:nvPr/>
        </p:nvPicPr>
        <p:blipFill>
          <a:blip r:embed="rId2"/>
          <a:srcRect l="0" t="0" r="77758" b="27817"/>
          <a:stretch/>
        </p:blipFill>
        <p:spPr>
          <a:xfrm>
            <a:off x="770040" y="6143760"/>
            <a:ext cx="44280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14348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119700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0bc"/>
                </a:solidFill>
                <a:latin typeface="Arial"/>
              </a:rPr>
              <a:t>Protection of distributed generation connected networks with coordination of overcurrent relays</a:t>
            </a:r>
            <a:endParaRPr b="1" lang="en-US" sz="40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548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Manjula Dewadasa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Arindam Ghos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Gerard Ledwic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System restoration using auto-reclosing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novel method for system restoration is proposed using automatic circuit reclosers (AC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ional OC relays are linked with the ACRs for system rest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restoration is started based on the identification of fault direction. A reclosing opportunity is given to the relay which sees the fault as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example, it is assumed that both forward and reverse relays are isolated the faulted section allowing an islanded operation beyond the downstream rel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System restoration using auto-reclosing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is case, forward relay tries to close the ACR (live to dead reclosing) first after a pre-defined delay time period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that is greater tha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tim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llows to disconnect any DG connected to the faulted section. This will also help in the self extinction of arc, if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downstream relay waits till upstream reclosing is successful. Only then it takes the opportunity to connect the downstream side with the upstream (utility)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Simulation studies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907920"/>
          <a:ext cx="4824360" cy="2494080"/>
        </p:xfrm>
        <a:graphic>
          <a:graphicData uri="http://schemas.openxmlformats.org/drawingml/2006/table">
            <a:tbl>
              <a:tblPr/>
              <a:tblGrid>
                <a:gridCol w="2143080"/>
                <a:gridCol w="268128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Quant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vol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kV rms (L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impedance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 +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.92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er impedance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Z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Z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 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85 +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775  +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MVA, 0.8 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G power 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6"/>
          <p:cNvSpPr/>
          <p:nvPr/>
        </p:nvSpPr>
        <p:spPr>
          <a:xfrm>
            <a:off x="4932360" y="549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203640" y="3619440"/>
            <a:ext cx="5832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directional overcurrent relays R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d R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located at BUS-1, BUS-2 and BUS-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Gs inject fault currents for a defined time period 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0.35 s) or until the fault isolation is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 fault is cleared within 0.35 s (i.e. defined time period), the converter will recover and start supplying power in either grid-connected or islanded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2" descr="C:\Research\Research_Associate\Research Papers\IECON2011\presentation\visio\radil_with_DG_hori.tif"/>
          <p:cNvPicPr/>
          <p:nvPr/>
        </p:nvPicPr>
        <p:blipFill>
          <a:blip r:embed="rId1"/>
          <a:stretch/>
        </p:blipFill>
        <p:spPr>
          <a:xfrm>
            <a:off x="468360" y="333360"/>
            <a:ext cx="21002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Relay settings in forward direction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relay grading is performed separately for forward and revers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forward direction, the relays are graded considering both utility and D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aximum and minimum fault current levels at each bus is calculated and used to set the inverse time and instantaneous relay ele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reverse direction, relays can be only graded considering the DG fault 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Relay settings in forward direction contd.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79640" y="996840"/>
          <a:ext cx="4989600" cy="149724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  <a:gridCol w="1643040"/>
                <a:gridCol w="1079640"/>
              </a:tblGrid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kup current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2843280" y="69264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ay setting in forward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elay_grading.tif"/>
          <p:cNvPicPr/>
          <p:nvPr/>
        </p:nvPicPr>
        <p:blipFill>
          <a:blip r:embed="rId1"/>
          <a:stretch/>
        </p:blipFill>
        <p:spPr>
          <a:xfrm>
            <a:off x="2411280" y="2637000"/>
            <a:ext cx="4307040" cy="3095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2484360" y="573300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ay tripping time characteristics in forward directio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Relay settings in reverse direction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aximum load current seen by each relay during normal operating condition is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an inverse time relay characteristic is selected, higher fault clearing time can be experienced since fault current is comparably small due to the current limiting of 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us, definite time overcurrent relays are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03280" y="4797360"/>
          <a:ext cx="6096240" cy="1279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631880"/>
                <a:gridCol w="141624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ickup current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me delay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"/>
          <p:cNvSpPr/>
          <p:nvPr/>
        </p:nvSpPr>
        <p:spPr>
          <a:xfrm>
            <a:off x="1835280" y="443736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Definite time relay element settings in revers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1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03566"/>
                </a:solidFill>
                <a:latin typeface="Arial"/>
              </a:rPr>
              <a:t>Protection when DGs are intermittent </a:t>
            </a:r>
            <a:endParaRPr b="1" lang="en-US" sz="26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79640" y="3081240"/>
          <a:ext cx="5040360" cy="2880000"/>
        </p:xfrm>
        <a:graphic>
          <a:graphicData uri="http://schemas.openxmlformats.org/drawingml/2006/table">
            <a:tbl>
              <a:tblPr/>
              <a:tblGrid>
                <a:gridCol w="749160"/>
                <a:gridCol w="749520"/>
                <a:gridCol w="747720"/>
                <a:gridCol w="931680"/>
                <a:gridCol w="932040"/>
                <a:gridCol w="93024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1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2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3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Box 4"/>
          <p:cNvSpPr/>
          <p:nvPr/>
        </p:nvSpPr>
        <p:spPr>
          <a:xfrm>
            <a:off x="2411280" y="27608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operating time for different DG 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2268360" y="571392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= disconnected, 1= connected, N.O.= No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8000" y="765000"/>
            <a:ext cx="90360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this analysis, DG connectivity 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same system is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y settings need to be changed depending on the syste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protection is proposed with the aid of overcurrent relays and one way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3566"/>
                </a:solidFill>
                <a:latin typeface="Arial"/>
              </a:rPr>
              <a:t>Conclusions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0" y="76500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practice of DG disconnection for every fault in a network drastically reduces the DG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iable protection solutions are needed to overcome these immediate DG dis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paper, protection strategies have been proposed to isolate the smallest portion of a faulted section without disconnecting DGs from the unfaulted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overcurrent relay protection scheme has been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DGs are based on time varying sources, one way communication is used between DGs and r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posed protection strategies help to maximize the DG benefits maintaining as many DG connections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1096920" y="2176560"/>
            <a:ext cx="67359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b067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539640" y="907920"/>
            <a:ext cx="82915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tributed generators (DGs) can provide benefits for both utilities and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 flow in a radial network become bi-directional once DGs are 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fault current level changes due to intermittent nature of 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islanding operation with DGs is prohibited due to the restoration, personnel safety and power qual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c00060"/>
                </a:solidFill>
                <a:latin typeface="Arial"/>
              </a:rPr>
              <a:t>, the disconnection of DGs drastically reduces the benefits as the penetration level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b0678"/>
                </a:solidFill>
                <a:latin typeface="Arial"/>
              </a:rPr>
              <a:t>Introduction Contd.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39640" y="1125360"/>
            <a:ext cx="8291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cording to IEEE Std. 1547, DGs should disconnect from the network when a fault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DGs can be used to supply the load demand in the absence of grid supply if DGs are allowed to operate in islanded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paper, protection issues associated with disconnection of DGs are addressed in the context of a radial distribution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The major protection issues are identified a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68360" y="1197000"/>
            <a:ext cx="8291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olation of the smallest fault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ult ride-through capability of DG and DG connection /dis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landed protection with 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 restoration by performing auto-recl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is study, the abovementioned protection issues a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Isolation of the smallest faulted sec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179280" y="765000"/>
            <a:ext cx="88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ault occurs in a traditional radial feeder, the overcurrent relays respond to isolate the portion of the network resulting power interruption to the customers downstream from the fault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proposed method, customer power interruption is minimized by isolating the smallest faulted section from the network and allowing islande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s is achieved by </a:t>
            </a:r>
            <a:r>
              <a:rPr b="0" lang="en-US" sz="2800" spc="-1" strike="noStrike">
                <a:solidFill>
                  <a:srgbClr val="c00060"/>
                </a:solidFill>
                <a:latin typeface="Arial"/>
              </a:rPr>
              <a:t>isolating a fault from both upstream and downstream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Isolation of the smallest faulted section contd.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179280" y="9810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ional overcurrent (OC) relays with separate grading in forward and reverse ar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DG connections are not consistent, a reliable communication </a:t>
            </a: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method is required amongst DGs and the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 relays select the most appropriate setting according to present system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case of communication failure, each relay selects its default settings which are initial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Fault ride-through capability of DG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179280" y="981000"/>
            <a:ext cx="885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DGs should have the fault ride through capability to obtain faulted sectio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s prevents unnecessary disconnections of DGs during abnorm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proposed method, DGs inject fault current for a defined time period 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 until fault is cleared by the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tim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chosen considering the relay requirements and DG disconnection requirements for abnormal voltages (IEEE 15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Fault ride-through capability of DG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79280" y="620640"/>
            <a:ext cx="8856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faulted section is isolated from the rest of system within the tim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three types of DG status can be mainly ident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Gs connected to the utility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Gs can operate in grid-connected mode after isolating the fault from the utility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Gs connected to the fault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Gs connected to the faulted section will be disconnected either using the DG circuit br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Gs connected to the island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Gs can supply the load demand if the total DG capacity is sufficient to supply the loa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3566"/>
                </a:solidFill>
                <a:latin typeface="Arial"/>
              </a:rPr>
              <a:t>Islanded protection with DG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179280" y="836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relays settings in forward direction will not be appropriate since they are initially set considering the utility fault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refore, the relay settings are changed during the islande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ever, the DGs will be disconnected after the time perio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thereby providing backup protection in the absence of relays or when the relays fail to detect a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23:34:27Z</dcterms:created>
  <dc:creator>ghosh</dc:creator>
  <dc:description/>
  <dc:language>en-US</dc:language>
  <cp:lastModifiedBy>Queensland University of Technology</cp:lastModifiedBy>
  <dcterms:modified xsi:type="dcterms:W3CDTF">2011-08-09T01:13:49Z</dcterms:modified>
  <cp:revision>167</cp:revision>
  <dc:subject/>
  <dc:title>What’s in it for me?</dc:title>
</cp:coreProperties>
</file>