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2B8F-78AC-492B-9957-B94D8CB06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A54E-2483-43D0-9FA6-A234BDC24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AFDF-6E87-4F42-A0FF-005A8FDF4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1268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1268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1b1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022800"/>
            <a:ext cx="9144000" cy="835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QUTlogo2955"/>
          <p:cNvPicPr/>
          <p:nvPr/>
        </p:nvPicPr>
        <p:blipFill>
          <a:blip r:embed="rId2"/>
          <a:srcRect l="0" t="0" r="77761" b="27822"/>
          <a:stretch/>
        </p:blipFill>
        <p:spPr>
          <a:xfrm>
            <a:off x="820800" y="6221520"/>
            <a:ext cx="430200" cy="42552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7169040" y="6351480"/>
            <a:ext cx="130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03566"/>
                </a:solidFill>
                <a:latin typeface="Arial"/>
              </a:rPr>
              <a:t>CRICOS No. 000213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374120" y="6303960"/>
            <a:ext cx="14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 university for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184560" y="636264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2675520" y="6254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3699000" y="6276960"/>
            <a:ext cx="191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3765600" y="6313320"/>
            <a:ext cx="93600" cy="93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5946840"/>
            <a:ext cx="9144000" cy="9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10720" y="6564240"/>
            <a:ext cx="201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03566"/>
                </a:solidFill>
                <a:latin typeface="Arial"/>
              </a:rPr>
              <a:t>Queensland University of 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QUTlogo2955"/>
          <p:cNvPicPr/>
          <p:nvPr/>
        </p:nvPicPr>
        <p:blipFill>
          <a:blip r:embed="rId2"/>
          <a:srcRect l="0" t="0" r="77758" b="27817"/>
          <a:stretch/>
        </p:blipFill>
        <p:spPr>
          <a:xfrm>
            <a:off x="770040" y="6143760"/>
            <a:ext cx="442800" cy="438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7143480" y="6351480"/>
            <a:ext cx="130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03566"/>
                </a:solidFill>
                <a:latin typeface="Arial"/>
              </a:rPr>
              <a:t>CRICOS No. 000213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1b1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1197000"/>
            <a:ext cx="8856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7842"/>
                </a:solidFill>
                <a:latin typeface="Arial"/>
              </a:rPr>
              <a:t>Protection of Microgrids Using Differential Relays</a:t>
            </a:r>
            <a:endParaRPr b="1" lang="en-US" sz="40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548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0c0"/>
                </a:solidFill>
                <a:latin typeface="Arial"/>
              </a:rPr>
              <a:t>Manjula Dewadasa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0c0"/>
                </a:solidFill>
                <a:latin typeface="Arial"/>
              </a:rPr>
              <a:t>Arindam Ghosh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Gerard Ledwich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0520"/>
            <a:ext cx="8424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CT Selection Criteria Contd.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0" y="649440"/>
            <a:ext cx="9144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IEEE C57.13 and IEEE C37.11provide guidelines in selecting CTs for protective rel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Usually, the secondary rated current is 5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The primary current rating of a CT is selected conside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675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the maximum current in normal operating cond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675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the maximum symmetrical fault curr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The selected primary current should be greater than the maximum current in normal operating condition and it should also be greater than one twentieth (1/20) of the maximum symmetrical fault curr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2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CT Selection Criteria Contd.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0" y="765000"/>
            <a:ext cx="91440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The saturation due to both AC and DC components can be avoided by selecting the saturation voltage of a CT according 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"/>
              <p:cNvSpPr txBox="1"/>
              <p:nvPr/>
            </p:nvSpPr>
            <p:spPr>
              <a:xfrm>
                <a:off x="1908000" y="2276640"/>
                <a:ext cx="53676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0" name="Rectangle 6"/>
          <p:cNvSpPr/>
          <p:nvPr/>
        </p:nvSpPr>
        <p:spPr>
          <a:xfrm>
            <a:off x="790560" y="3573360"/>
            <a:ext cx="835344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econdary saturation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ratio between the primary current and the CT turns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CT secondary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leakage reac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total secondary burden which includes secondary leads and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the primary system reac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the resistance up to the faul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87200"/>
            <a:ext cx="8820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icrogrid Protection Studies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179280" y="1052640"/>
            <a:ext cx="885672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CT ratio for a particular CT is selected based on the maximum load current and the maximum fault current seen by the rel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CT ratio for a relay is selected based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CT can deliver 20 times rated secondary current without exceeding 10% ratio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rated primary current to be above the maximum possible load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36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Simulation Results 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0" y="53737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The maximum CT ratio error of  ±10% is assu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700360" y="765000"/>
          <a:ext cx="3905280" cy="5119920"/>
        </p:xfrm>
        <a:graphic>
          <a:graphicData uri="http://schemas.openxmlformats.org/drawingml/2006/table">
            <a:tbl>
              <a:tblPr/>
              <a:tblGrid>
                <a:gridCol w="573120"/>
                <a:gridCol w="815760"/>
                <a:gridCol w="936720"/>
                <a:gridCol w="803520"/>
                <a:gridCol w="776160"/>
              </a:tblGrid>
              <a:tr h="91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A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max</a:t>
                      </a: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A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max</a:t>
                      </a: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0 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A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ax</a:t>
                      </a: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A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: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A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: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A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: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A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: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A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: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A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: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A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: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A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: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A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: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A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: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Simulation Results Contd. 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0" y="76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The fault response of relays R</a:t>
            </a:r>
            <a:r>
              <a:rPr b="0" lang="en-AU" sz="24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 and R</a:t>
            </a:r>
            <a:r>
              <a:rPr b="0" lang="en-AU" sz="2400" spc="-1" strike="noStrike" baseline="-25000">
                <a:solidFill>
                  <a:srgbClr val="0000ff"/>
                </a:solidFill>
                <a:latin typeface="Arial"/>
              </a:rPr>
              <a:t>32</a:t>
            </a: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 for internal and external feeder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5445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fault resistance is varied from 1 Ω to 20 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bus34"/>
          <p:cNvPicPr/>
          <p:nvPr/>
        </p:nvPicPr>
        <p:blipFill>
          <a:blip r:embed="rId1"/>
          <a:stretch/>
        </p:blipFill>
        <p:spPr>
          <a:xfrm>
            <a:off x="2050920" y="1809720"/>
            <a:ext cx="4465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Simulation Results Contd. 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41" name="Content Placeholder 2"/>
          <p:cNvSpPr/>
          <p:nvPr/>
        </p:nvSpPr>
        <p:spPr>
          <a:xfrm>
            <a:off x="0" y="6922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The fault response of relays R</a:t>
            </a:r>
            <a:r>
              <a:rPr b="0" lang="en-AU" sz="24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 and R</a:t>
            </a:r>
            <a:r>
              <a:rPr b="0" lang="en-AU" sz="2400" spc="-1" strike="noStrike" baseline="-25000">
                <a:solidFill>
                  <a:srgbClr val="0000ff"/>
                </a:solidFill>
                <a:latin typeface="Arial"/>
              </a:rPr>
              <a:t>32</a:t>
            </a: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 for internal and external feeder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71280" y="1916280"/>
            <a:ext cx="4500720" cy="2238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4643280" y="1911240"/>
            <a:ext cx="44294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Relay Response in Islanded Operation 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0" y="76500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lays 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nd 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response for faults in islanded micro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bus23"/>
          <p:cNvPicPr/>
          <p:nvPr/>
        </p:nvPicPr>
        <p:blipFill>
          <a:blip r:embed="rId1"/>
          <a:stretch/>
        </p:blipFill>
        <p:spPr>
          <a:xfrm>
            <a:off x="2195640" y="1341360"/>
            <a:ext cx="4356000" cy="3467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0" y="5035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lays are capable of detecting faults either in grid connected or islanded modes of operation without changing any relay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360" y="11556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Conclusions 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0" y="76500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 this paper, a primary protection scheme for a microgrid is presented using current differential r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protection issues associated with meshed structure, microgrid islanded operation, fault detection under low fault current levels are avoided with the use of modern differential r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lay settings and CT selection requirements are also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sults show that the proposed protection strategies can provide selectivity and high level of sensitivity for internal faults in both grid-connected and islanded modes of operation thereby allowing a safe and a reliable operation for a micro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3" descr=""/>
          <p:cNvPicPr/>
          <p:nvPr/>
        </p:nvPicPr>
        <p:blipFill>
          <a:blip r:embed="rId1"/>
          <a:stretch/>
        </p:blipFill>
        <p:spPr>
          <a:xfrm>
            <a:off x="-19080" y="2103480"/>
            <a:ext cx="918216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b0678"/>
                </a:solidFill>
                <a:latin typeface="Arial"/>
              </a:rPr>
              <a:t>Introduction – Protection Issues</a:t>
            </a:r>
            <a:endParaRPr b="1" lang="en-US" sz="36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179280" y="907920"/>
            <a:ext cx="87235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microgrid integrates distributed energy resources to provide reliable, environment friendly and economical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microgrid can operate either in grid-connected or islande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landing operation brings benefits to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ever, once islanding occurs, </a:t>
            </a:r>
            <a:r>
              <a:rPr b="0" lang="en-US" sz="2400" spc="-1" strike="noStrike">
                <a:solidFill>
                  <a:srgbClr val="c00060"/>
                </a:solidFill>
                <a:latin typeface="Arial"/>
              </a:rPr>
              <a:t>short circuit levels may drop significantl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due to the absence of strong utility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 this case, protection system designed for high fault currents will not respond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60"/>
                </a:solidFill>
                <a:latin typeface="Arial"/>
              </a:rPr>
              <a:t>new protection strategies are required to ensure a safe islanding operation in a microgri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-27000"/>
            <a:ext cx="849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b0678"/>
                </a:solidFill>
                <a:latin typeface="Arial"/>
              </a:rPr>
              <a:t>Protection Issues Contd.</a:t>
            </a:r>
            <a:endParaRPr b="1" lang="en-US" sz="36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0" name="Content Placeholder 2"/>
          <p:cNvSpPr/>
          <p:nvPr/>
        </p:nvSpPr>
        <p:spPr>
          <a:xfrm>
            <a:off x="0" y="765000"/>
            <a:ext cx="9144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power flow within a microgrid can be bi-directional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G connections at different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sh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st of DGs are connected through power electronic converters and these converters do not supply sufficient currents to operate current based protectiv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Some of the DGs connected to a microgrid are intermittent and therefore different fault current levels can be experi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00060"/>
                </a:solidFill>
                <a:latin typeface="Arial"/>
              </a:rPr>
              <a:t>Protecting a converter dominated microgrid is a challenging technical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Protection Solutions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0" y="76500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Protection strategies required for a microgrid are presented using current deferential r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14b59"/>
                </a:solidFill>
                <a:latin typeface="Arial"/>
              </a:rPr>
              <a:t>The protection challenges associated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14b59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e14b59"/>
                </a:solidFill>
                <a:latin typeface="Arial"/>
              </a:rPr>
              <a:t>bi-directional power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14b59"/>
                </a:solidFill>
                <a:latin typeface="Arial"/>
              </a:rPr>
              <a:t>meshe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14b59"/>
                </a:solidFill>
                <a:latin typeface="Arial"/>
              </a:rPr>
              <a:t>changing fault current level due to intermittent nature of D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14b59"/>
                </a:solidFill>
                <a:latin typeface="Arial"/>
              </a:rPr>
              <a:t>reduced fault current level in an island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c00060"/>
                </a:solidFill>
                <a:latin typeface="Arial"/>
              </a:rPr>
              <a:t>ar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2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Microgrid Configuration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pic>
        <p:nvPicPr>
          <p:cNvPr id="104" name="Picture 4" descr="mesh network1"/>
          <p:cNvPicPr/>
          <p:nvPr/>
        </p:nvPicPr>
        <p:blipFill>
          <a:blip r:embed="rId1"/>
          <a:stretch/>
        </p:blipFill>
        <p:spPr>
          <a:xfrm>
            <a:off x="395280" y="836640"/>
            <a:ext cx="8612280" cy="3573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0" y="4653000"/>
            <a:ext cx="91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tection of the microgrid is discussed under different     subgroups such as feeder, bus and 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7740720" y="6021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2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Differential Feeder Protection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179280" y="765000"/>
            <a:ext cx="8856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Current differential protection is proposed to detect and isolate the feeder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diff_protection"/>
          <p:cNvPicPr/>
          <p:nvPr/>
        </p:nvPicPr>
        <p:blipFill>
          <a:blip r:embed="rId1"/>
          <a:stretch/>
        </p:blipFill>
        <p:spPr>
          <a:xfrm>
            <a:off x="1908000" y="1916280"/>
            <a:ext cx="5572440" cy="180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1187280" y="4653000"/>
                <a:ext cx="24480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f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4572000" y="4437000"/>
                <a:ext cx="24559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8"/>
          <p:cNvSpPr/>
          <p:nvPr/>
        </p:nvSpPr>
        <p:spPr>
          <a:xfrm>
            <a:off x="108000" y="4067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differential and bias currents are defin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44360" y="5508720"/>
            <a:ext cx="874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A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A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re secondary CT phasor currents in each relay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2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Deferential Relay Characteristic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34920" y="4292640"/>
            <a:ext cx="914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In normal operating condition, the differential current should b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However, due to the line charging, CT saturation and inaccuracies in CT mismatch, it may not equal to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relay_charac1"/>
          <p:cNvPicPr/>
          <p:nvPr/>
        </p:nvPicPr>
        <p:blipFill>
          <a:blip r:embed="rId1"/>
          <a:stretch/>
        </p:blipFill>
        <p:spPr>
          <a:xfrm>
            <a:off x="2340000" y="907920"/>
            <a:ext cx="4052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87200"/>
            <a:ext cx="8424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Deferential Bus Protection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34920" y="4292640"/>
            <a:ext cx="914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uses may have connected to loads, DGs and fee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relay will issue a trip command to all the circuit breakers connected to the bus during a bus 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bus_protection"/>
          <p:cNvPicPr/>
          <p:nvPr/>
        </p:nvPicPr>
        <p:blipFill>
          <a:blip r:embed="rId1"/>
          <a:stretch/>
        </p:blipFill>
        <p:spPr>
          <a:xfrm>
            <a:off x="2916360" y="968400"/>
            <a:ext cx="30240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0520"/>
            <a:ext cx="8424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CT Selection Criteria for Protection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0" y="649440"/>
            <a:ext cx="9144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EEE C57.13 and IEEE C37.11provide guidelines in selecting CTs for protective r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llowing factors should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T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T accuracy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aturation vol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nee point vol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itation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mary side voltage rating and current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23:34:27Z</dcterms:created>
  <dc:creator>ghosh</dc:creator>
  <dc:description/>
  <dc:language>en-US</dc:language>
  <cp:lastModifiedBy>Queensland University of Technology</cp:lastModifiedBy>
  <dcterms:modified xsi:type="dcterms:W3CDTF">2011-08-10T03:20:52Z</dcterms:modified>
  <cp:revision>214</cp:revision>
  <dc:subject/>
  <dc:title>What’s in it for me?</dc:title>
</cp:coreProperties>
</file>