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2.png" ContentType="image/png"/>
  <Override PartName="/ppt/media/image8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32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C29-57EA-42C7-B9CB-79E3B3D41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2561-A9E6-45E7-B8F8-0A109EFD3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543E-141A-4D0B-81B2-A59732C4A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C59-2761-4ADE-8295-FEA18DDA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A62-9782-43CA-B68E-85523031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5F6-9068-483A-A11E-E8CE33F2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837-0463-4F87-AE89-7FD3C264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2C1-2502-4C38-9C8C-9118155D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47F-5439-4BE0-8999-7C840561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831-5088-4055-A0AB-57946096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B04-9768-4A20-A9C5-83815DA6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61600" y="685440"/>
            <a:ext cx="787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7D2-7343-4077-B9FD-5CDA3B68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BCA-3F97-47D7-8E9A-18A30F3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284-FF79-4DB6-8A3E-857E5E4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30E-59B7-4C68-8A6D-BD69F0E2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CD5F-E5F7-495B-9106-9F6A8D09B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61600" y="68544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22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dc4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2700360" y="0"/>
            <a:ext cx="644364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644364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grid.net.au/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No Logo Prius PHEV"/>
          <p:cNvPicPr/>
          <p:nvPr/>
        </p:nvPicPr>
        <p:blipFill>
          <a:blip r:embed="rId1"/>
          <a:stretch/>
        </p:blipFill>
        <p:spPr>
          <a:xfrm>
            <a:off x="7072200" y="3500280"/>
            <a:ext cx="205596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Documents and Settings\Louise\Desktop\Matt\logo.JPG"/>
          <p:cNvPicPr/>
          <p:nvPr/>
        </p:nvPicPr>
        <p:blipFill>
          <a:blip r:embed="rId2"/>
          <a:stretch/>
        </p:blipFill>
        <p:spPr>
          <a:xfrm>
            <a:off x="1917720" y="3500280"/>
            <a:ext cx="521496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4"/>
          <a:stretch/>
        </p:blipFill>
        <p:spPr>
          <a:xfrm>
            <a:off x="285840" y="6143760"/>
            <a:ext cx="8572320" cy="642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2100"/>
            </a:br>
            <a:br>
              <a:rPr sz="21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2868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ocial and Community Aspects of IG-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r Diane Costello, Curti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erth Western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63360" y="-136440"/>
            <a:ext cx="66963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G:\General\Projects Working\CSIRO_Intelligent grid (project 4)_07063\CSIRO_I Grid Cluster Leader\Resources\Photographs_images\Compact Flourecent grey_000005076835Medium.JPG"/>
          <p:cNvPicPr/>
          <p:nvPr/>
        </p:nvPicPr>
        <p:blipFill>
          <a:blip r:embed="rId5"/>
          <a:stretch/>
        </p:blipFill>
        <p:spPr>
          <a:xfrm>
            <a:off x="0" y="3500280"/>
            <a:ext cx="1908000" cy="1297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642960" y="52149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ugust 31, 2010 – Customs House, Brisbane,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vironment ‘PAR’ Economic Sustain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hart 4" descr=""/>
          <p:cNvPicPr/>
          <p:nvPr/>
        </p:nvPicPr>
        <p:blipFill>
          <a:blip r:embed="rId1"/>
          <a:stretch/>
        </p:blipFill>
        <p:spPr>
          <a:xfrm>
            <a:off x="628560" y="1200240"/>
            <a:ext cx="766764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conomy; Environment &amp; Energy Poli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71320" y="1143000"/>
            <a:ext cx="7143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30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o Place &amp;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Low pro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Policy Action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Regulatory &amp; Market Reforms – integration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ierarchists/Egalitarian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– CPRS, RE subsidies &amp; green inves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ultural Chang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- consumer consumption &amp; alternative green indus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dividualist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– Distrustful - 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pposed CPRS – [RETS; CC&amp;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arbon tax.jpg"/>
          <p:cNvPicPr/>
          <p:nvPr/>
        </p:nvPicPr>
        <p:blipFill>
          <a:blip r:embed="rId1"/>
          <a:stretch/>
        </p:blipFill>
        <p:spPr>
          <a:xfrm>
            <a:off x="6715080" y="3143160"/>
            <a:ext cx="1014480" cy="9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arbon tax2.jpg"/>
          <p:cNvPicPr/>
          <p:nvPr/>
        </p:nvPicPr>
        <p:blipFill>
          <a:blip r:embed="rId2"/>
          <a:stretch/>
        </p:blipFill>
        <p:spPr>
          <a:xfrm>
            <a:off x="6929280" y="4572000"/>
            <a:ext cx="1247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786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en Awareness &amp; Behavioural 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71680" y="1142640"/>
            <a:ext cx="78580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bility (Climate Change) – Actions!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3" descr=""/>
          <p:cNvPicPr/>
          <p:nvPr/>
        </p:nvPicPr>
        <p:blipFill>
          <a:blip r:embed="rId1"/>
          <a:stretch/>
        </p:blipFill>
        <p:spPr>
          <a:xfrm>
            <a:off x="701640" y="1700280"/>
            <a:ext cx="774072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5720" y="571320"/>
            <a:ext cx="80582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tribution Responsibility – Climate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71680" y="1285560"/>
            <a:ext cx="78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ased – Mobile – Energy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ltruistic; Economic -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reen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rriers: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ffordability &amp; Low Prio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agma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titude: C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ly Responsible – Powerle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CO-ORDIN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earchists &amp; Individu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behavi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galitar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dividual Responsibility &amp; Civic 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Infl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arliament house.jpg"/>
          <p:cNvPicPr/>
          <p:nvPr/>
        </p:nvPicPr>
        <p:blipFill>
          <a:blip r:embed="rId1"/>
          <a:stretch/>
        </p:blipFill>
        <p:spPr>
          <a:xfrm>
            <a:off x="6786720" y="2857680"/>
            <a:ext cx="1285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5720" y="57132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unity Acceptance of IG-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71680" y="1142640"/>
            <a:ext cx="78580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stitutional Coordination – on-site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hart 3" descr=""/>
          <p:cNvPicPr/>
          <p:nvPr/>
        </p:nvPicPr>
        <p:blipFill>
          <a:blip r:embed="rId1"/>
          <a:stretch/>
        </p:blipFill>
        <p:spPr>
          <a:xfrm>
            <a:off x="701640" y="1700280"/>
            <a:ext cx="7813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5720" y="57168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y Sources – Desired for Fu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71680" y="5857560"/>
            <a:ext cx="78580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 Sourc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! - Nuclear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igma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– safety (waste, health, terroris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Chart 3" descr=""/>
          <p:cNvPicPr/>
          <p:nvPr/>
        </p:nvPicPr>
        <p:blipFill>
          <a:blip r:embed="rId1"/>
          <a:stretch/>
        </p:blipFill>
        <p:spPr>
          <a:xfrm>
            <a:off x="628560" y="1060560"/>
            <a:ext cx="78138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5720" y="57168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upport - Policy &amp; Technological Solu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57160" y="6000840"/>
            <a:ext cx="785808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derstanding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east detrimental!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hart 3" descr=""/>
          <p:cNvPicPr/>
          <p:nvPr/>
        </p:nvPicPr>
        <p:blipFill>
          <a:blip r:embed="rId1"/>
          <a:stretch/>
        </p:blipFill>
        <p:spPr>
          <a:xfrm>
            <a:off x="560520" y="1127160"/>
            <a:ext cx="80960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286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conomic &amp; Informational Barriers - IG-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71680" y="564336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elf Reliant -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fordable/informed choices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ntrepreneur– Roof Space –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VC/micro-wind turbine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hart 3" descr=""/>
          <p:cNvPicPr/>
          <p:nvPr/>
        </p:nvPicPr>
        <p:blipFill>
          <a:blip r:embed="rId1"/>
          <a:stretch/>
        </p:blipFill>
        <p:spPr>
          <a:xfrm>
            <a:off x="628560" y="987480"/>
            <a:ext cx="79549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71760" y="571320"/>
            <a:ext cx="56433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ENTIVES - Facilitate IG-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hart 4" descr=""/>
          <p:cNvPicPr/>
          <p:nvPr/>
        </p:nvPicPr>
        <p:blipFill>
          <a:blip r:embed="rId1"/>
          <a:stretch/>
        </p:blipFill>
        <p:spPr>
          <a:xfrm>
            <a:off x="560520" y="1274760"/>
            <a:ext cx="78818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5720" y="5713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ldviews &amp; Willingness to Adopt IG-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71680" y="1285560"/>
            <a:ext cx="3929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centives - Adop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u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duction –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ergy U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ffordability –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E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 Incentives – inequality –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nied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hallenge –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hart 5" descr=""/>
          <p:cNvPicPr/>
          <p:nvPr/>
        </p:nvPicPr>
        <p:blipFill>
          <a:blip r:embed="rId1"/>
          <a:stretch/>
        </p:blipFill>
        <p:spPr>
          <a:xfrm>
            <a:off x="4638600" y="1206360"/>
            <a:ext cx="38037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ject 5 - Objectives &amp; 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71680" y="1143000"/>
            <a:ext cx="700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cial &amp; Community Asp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rriers,opportunities, issue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sych, socio-eco,political- energy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ethodology: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gional Power Working Group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– Community Engagement – IG-DE transition – edge of gr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MEs Energy Survey –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wo Comm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enmark 2.jpg"/>
          <p:cNvPicPr/>
          <p:nvPr/>
        </p:nvPicPr>
        <p:blipFill>
          <a:blip r:embed="rId1"/>
          <a:stretch/>
        </p:blipFill>
        <p:spPr>
          <a:xfrm>
            <a:off x="7182000" y="3857760"/>
            <a:ext cx="1176120" cy="928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Albany.jpg"/>
          <p:cNvPicPr/>
          <p:nvPr/>
        </p:nvPicPr>
        <p:blipFill>
          <a:blip r:embed="rId2"/>
          <a:stretch/>
        </p:blipFill>
        <p:spPr>
          <a:xfrm>
            <a:off x="7429680" y="857160"/>
            <a:ext cx="9666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5720" y="50004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st in Government – Energy Sustain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71680" y="500076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874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litical – Frustration &amp; Confusion – Poli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– 3 New 2 Refurbished- Coal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bate – Certainty - Vacuum Policy!!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hart 3" descr=""/>
          <p:cNvPicPr/>
          <p:nvPr/>
        </p:nvPicPr>
        <p:blipFill>
          <a:blip r:embed="rId1"/>
          <a:stretch/>
        </p:blipFill>
        <p:spPr>
          <a:xfrm>
            <a:off x="701640" y="987480"/>
            <a:ext cx="76676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85720" y="49968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wareness &amp; Information Source -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hart 3" descr=""/>
          <p:cNvPicPr/>
          <p:nvPr/>
        </p:nvPicPr>
        <p:blipFill>
          <a:blip r:embed="rId1"/>
          <a:stretch/>
        </p:blipFill>
        <p:spPr>
          <a:xfrm>
            <a:off x="701640" y="1060560"/>
            <a:ext cx="2595600" cy="2236680"/>
          </a:xfrm>
          <a:prstGeom prst="rect">
            <a:avLst/>
          </a:prstGeom>
          <a:ln w="0">
            <a:noFill/>
          </a:ln>
        </p:spPr>
      </p:pic>
      <p:pic>
        <p:nvPicPr>
          <p:cNvPr id="122" name="Chart 5" descr=""/>
          <p:cNvPicPr/>
          <p:nvPr/>
        </p:nvPicPr>
        <p:blipFill>
          <a:blip r:embed="rId2"/>
          <a:stretch/>
        </p:blipFill>
        <p:spPr>
          <a:xfrm>
            <a:off x="3413160" y="1060560"/>
            <a:ext cx="5029200" cy="2236680"/>
          </a:xfrm>
          <a:prstGeom prst="rect">
            <a:avLst/>
          </a:prstGeom>
          <a:ln w="0">
            <a:noFill/>
          </a:ln>
        </p:spPr>
      </p:pic>
      <p:pic>
        <p:nvPicPr>
          <p:cNvPr id="123" name="Chart 7" descr=""/>
          <p:cNvPicPr/>
          <p:nvPr/>
        </p:nvPicPr>
        <p:blipFill>
          <a:blip r:embed="rId3"/>
          <a:stretch/>
        </p:blipFill>
        <p:spPr>
          <a:xfrm>
            <a:off x="1274760" y="3486240"/>
            <a:ext cx="68817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5720" y="57168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ormation Source &amp; Tru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71680" y="4928760"/>
            <a:ext cx="78580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lace-bound -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cial networks – sourcing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formation &amp; Educational Campaig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hart 4" descr=""/>
          <p:cNvPicPr/>
          <p:nvPr/>
        </p:nvPicPr>
        <p:blipFill>
          <a:blip r:embed="rId1"/>
          <a:stretch/>
        </p:blipFill>
        <p:spPr>
          <a:xfrm>
            <a:off x="560520" y="1060560"/>
            <a:ext cx="80960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5720" y="57168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ormation, Education &amp; Social 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71680" y="1143000"/>
            <a:ext cx="7858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ust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urce - Communicated – “Social Identity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Hierarchists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imple practical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tivation: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conomic incentives &amp; energy sav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not responsive -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avity posed to humans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tigma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nvironmentalist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neutral langu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nvironmental organization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64%) -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ire; CIC, Tourism –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us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- not threate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Individualist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- sceptical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-Environmentalist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peals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echnocentric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incentives – EE &amp; green 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cal media – govt/industry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85720" y="57132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unicating  Energy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42960" y="1214280"/>
            <a:ext cx="78580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Egalitarian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- Science –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ed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vironmental, scholarly &amp; interne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co-centric &amp; techno-centric – catastrop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LINK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– Practice –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aders - Campaigns EE – Chan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MUNICATE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verse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d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Conclusion –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ERTAINTY -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imate change, sustainable energy &amp; economic stabil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ership -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stitutional Coordination!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ultural Orientation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85720" y="500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 &amp; Recommend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71680" y="1143000"/>
            <a:ext cx="7929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 u="sng">
                <a:solidFill>
                  <a:srgbClr val="000000"/>
                </a:solidFill>
                <a:uFillTx/>
                <a:latin typeface="Arial"/>
              </a:rPr>
              <a:t>Facilitation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A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ommunity Engagement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nstitutional trust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 &amp; (b)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alience IG-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&amp; Personal Responsibility!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Altruistic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moral norm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Limitations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– Sustainability Framework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– AWARE – access – incentiv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Environmental – campaigns -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iverse ID group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 u="sng">
                <a:solidFill>
                  <a:srgbClr val="000000"/>
                </a:solidFill>
                <a:uFillTx/>
                <a:latin typeface="Arial"/>
              </a:rPr>
              <a:t>Incentives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conomic/tech </a:t>
            </a:r>
            <a:r>
              <a:rPr b="1" i="1" lang="en-A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ccessibl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ime &amp; Resource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– on-site consultations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Civil Society–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dvocacy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– Remove Barriers IG-DE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71680" y="85680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 more information on the iGrid Research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website address is </a:t>
            </a:r>
            <a:r>
              <a:rPr b="0" lang="en-AU" sz="1800" spc="-1" strike="noStrike" u="sng">
                <a:solidFill>
                  <a:srgbClr val="ff0066"/>
                </a:solidFill>
                <a:uFillTx/>
                <a:latin typeface="Arial"/>
                <a:hlinkClick r:id="rId1"/>
              </a:rPr>
              <a:t>www.igrid.net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forms part of our overall communications strategy. The websi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vehicle for dissemination cluster research findings and to facilitat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gagement with key industry stakehold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grid website.bmp"/>
          <p:cNvPicPr/>
          <p:nvPr/>
        </p:nvPicPr>
        <p:blipFill>
          <a:blip r:embed="rId2"/>
          <a:stretch/>
        </p:blipFill>
        <p:spPr>
          <a:xfrm>
            <a:off x="1071720" y="3714840"/>
            <a:ext cx="7000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48578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alytical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71680" y="1285560"/>
            <a:ext cx="78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matic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ultures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nergy Consumer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(1) Hierarchists; (2) Egalitarians; (3) Individu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iscours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energy attitudes &amp; behaviou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ot Stereotype –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multiplicity worldviews - flexible IG-DE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erarch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“little sense of individual responsibilit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i="1" lang="en-AU" sz="2800" spc="-1" strike="noStrike">
                <a:solidFill>
                  <a:srgbClr val="7030a0"/>
                </a:solidFill>
                <a:latin typeface="Arial"/>
              </a:rPr>
              <a:t>climate change &amp; development of RE are government responsibilities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lbany 3.jpg"/>
          <p:cNvPicPr/>
          <p:nvPr/>
        </p:nvPicPr>
        <p:blipFill>
          <a:blip r:embed="rId1"/>
          <a:stretch/>
        </p:blipFill>
        <p:spPr>
          <a:xfrm>
            <a:off x="6858000" y="571680"/>
            <a:ext cx="1368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50720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y Cultures - Dis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71320" y="1214280"/>
            <a:ext cx="7786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45720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Australian businesses will be disadvantaged if overseas economies do not regulate carbon emission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ts val="2500"/>
              </a:lnSpc>
              <a:spcBef>
                <a:spcPts val="601"/>
              </a:spcBef>
              <a:spcAft>
                <a:spcPts val="601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financial incentives are vital to take up 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energy efficiency and solar power generation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Egalitarian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– “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al responsibility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actions on climate change is a moral choice to protect the planet</a:t>
            </a:r>
            <a:r>
              <a:rPr b="0" lang="en-AU" sz="2600" spc="-1" strike="noStrike">
                <a:solidFill>
                  <a:srgbClr val="7030a0"/>
                </a:solidFill>
                <a:latin typeface="Arial"/>
              </a:rPr>
              <a:t>”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we must change our behaviour to protect future generations</a:t>
            </a:r>
            <a:r>
              <a:rPr b="0" lang="en-AU" sz="2600" spc="-1" strike="noStrike">
                <a:solidFill>
                  <a:srgbClr val="7030a0"/>
                </a:solidFill>
                <a:latin typeface="Arial"/>
              </a:rPr>
              <a:t>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we must act now to reduce our carbon emissions”</a:t>
            </a:r>
            <a:r>
              <a:rPr b="0" lang="en-AU" sz="26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limate c2.jpg"/>
          <p:cNvPicPr/>
          <p:nvPr/>
        </p:nvPicPr>
        <p:blipFill>
          <a:blip r:embed="rId1"/>
          <a:stretch/>
        </p:blipFill>
        <p:spPr>
          <a:xfrm>
            <a:off x="7215120" y="5286240"/>
            <a:ext cx="1238400" cy="83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solar roof.jpg"/>
          <p:cNvPicPr/>
          <p:nvPr/>
        </p:nvPicPr>
        <p:blipFill>
          <a:blip r:embed="rId2"/>
          <a:stretch/>
        </p:blipFill>
        <p:spPr>
          <a:xfrm>
            <a:off x="6786720" y="214200"/>
            <a:ext cx="11905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50720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y Cultures - Dis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71680" y="1214280"/>
            <a:ext cx="78580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9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dividualists – absenc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-personal responsibility -delegate responsibil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599"/>
              </a:lnSpc>
              <a:spcBef>
                <a:spcPts val="649"/>
              </a:spcBef>
              <a:spcAft>
                <a:spcPts val="601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there is no point subscribing to green energy -you don’t know if it is RE or coal fired“</a:t>
            </a:r>
            <a:r>
              <a:rPr b="0" lang="en-AU" sz="26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599"/>
              </a:lnSpc>
              <a:spcBef>
                <a:spcPts val="649"/>
              </a:spcBef>
              <a:spcAft>
                <a:spcPts val="601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it is not practical to pursue energy efficient operations if other businesses don’t do the same”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ts val="2599"/>
              </a:lnSpc>
              <a:spcAft>
                <a:spcPts val="601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the big polluters (Corporations/industry) should be mainly responsible for protecting the environment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ts val="2599"/>
              </a:lnSpc>
              <a:spcAft>
                <a:spcPts val="601"/>
              </a:spcAft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 “</a:t>
            </a:r>
            <a:r>
              <a:rPr b="0" i="1" lang="en-AU" sz="2600" spc="-1" strike="noStrike">
                <a:solidFill>
                  <a:srgbClr val="7030a0"/>
                </a:solidFill>
                <a:latin typeface="Arial"/>
              </a:rPr>
              <a:t>government is responsible for delivering a secure and reliable energy supply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limate change.jpg"/>
          <p:cNvPicPr/>
          <p:nvPr/>
        </p:nvPicPr>
        <p:blipFill>
          <a:blip r:embed="rId1"/>
          <a:stretch/>
        </p:blipFill>
        <p:spPr>
          <a:xfrm>
            <a:off x="6715080" y="500040"/>
            <a:ext cx="17859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unity Engagement - Main F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71680" y="1285560"/>
            <a:ext cx="78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INVOLVING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akeholders -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alt plans - u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grade power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unds Diver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TERACTIO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– state; Utility &amp; local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SM initiativ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(CFL; fuel switching; smart meter trials, educational forums, EE appliance replacements, load control trials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ACILITATION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community-owned wind farm - technical, regulatory,economic as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windpower.jpg"/>
          <p:cNvPicPr/>
          <p:nvPr/>
        </p:nvPicPr>
        <p:blipFill>
          <a:blip r:embed="rId1"/>
          <a:stretch/>
        </p:blipFill>
        <p:spPr>
          <a:xfrm>
            <a:off x="7072200" y="1857240"/>
            <a:ext cx="13813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centralized Govern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71680" y="1356840"/>
            <a:ext cx="79293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ENABLED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nsition -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warene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ergy Efficiency &amp; Reduction GHG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lience &amp; Acceptance –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galitar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ierarchists –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ppos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representative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ergy decisions–threaten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rrier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- economic growth/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cial, economic &amp; environmental sustainability – energy op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sustainability.jpg"/>
          <p:cNvPicPr/>
          <p:nvPr/>
        </p:nvPicPr>
        <p:blipFill>
          <a:blip r:embed="rId1"/>
          <a:stretch/>
        </p:blipFill>
        <p:spPr>
          <a:xfrm>
            <a:off x="6558120" y="5143680"/>
            <a:ext cx="1657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571320"/>
            <a:ext cx="60004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cal Governance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680" y="1285560"/>
            <a:ext cx="7929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999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Individualists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delegated - community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999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 technologies - reliable or afford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999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equality - afford - cheap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Successfu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clusiv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representation - Environmental, Social &amp; Economic - IG-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999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oncerns -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volution of responsibility, energy security, affordability, barriers economic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centralisation –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echanis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999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nsparency, consultation/feedback; accoun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governance.jpg"/>
          <p:cNvPicPr/>
          <p:nvPr/>
        </p:nvPicPr>
        <p:blipFill>
          <a:blip r:embed="rId1"/>
          <a:stretch/>
        </p:blipFill>
        <p:spPr>
          <a:xfrm>
            <a:off x="7429680" y="571680"/>
            <a:ext cx="1071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99760" y="428400"/>
            <a:ext cx="69152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ine SMEs Survey – Key F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0040" y="99972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599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42 SM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Change, Environment, Knowledge.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nvironmental Orientation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pport-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hart 5" descr=""/>
          <p:cNvPicPr/>
          <p:nvPr/>
        </p:nvPicPr>
        <p:blipFill>
          <a:blip r:embed="rId1"/>
          <a:stretch/>
        </p:blipFill>
        <p:spPr>
          <a:xfrm>
            <a:off x="701640" y="1914480"/>
            <a:ext cx="75945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2:54:54Z</dcterms:created>
  <dc:creator>Ann Hobson</dc:creator>
  <dc:description/>
  <cp:keywords/>
  <dc:language>en-US</dc:language>
  <cp:lastModifiedBy>172042B</cp:lastModifiedBy>
  <dcterms:modified xsi:type="dcterms:W3CDTF">2011-11-10T08:25:45Z</dcterms:modified>
  <cp:revision>300</cp:revision>
  <dc:subject/>
  <dc:title>PowerPoint Presentation</dc:title>
</cp:coreProperties>
</file>